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7231-0717-4E65-B37A-4DD793CB4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9670-CA4F-4B5E-BBF8-A2A30583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582A-22EB-457C-B8EE-212D882B2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47A3-6DFB-42BA-B42F-5F26945F5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FB30D-7DAD-4511-A168-D6B7EB4AE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22F63-39B2-4722-8B75-7B8EFFE5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EAE2E-3514-4565-90EE-697B2AE2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B624F-A48B-419A-AFFA-9EF137D6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498C2-B48E-4CAE-8FEB-65008708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B5F4D-7900-4470-81DC-245FF926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F363C-6D05-4194-B3FE-82937A4A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A03B-AD5E-4035-AF5C-92919C2B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13002-F27C-4E3C-9E8A-85372173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F2FA1-43A4-47F7-AE63-46491544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CB1B3-7A9D-48A0-9855-4B53F2D3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77BCF-8C87-459D-9FE9-D0761AE88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E4299-F322-4A69-BAF2-7077E237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4C4F-D539-4C7F-B747-CA0ACA2F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2671-864E-462E-B304-697E0014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0726-890B-45D9-B2EC-15C6010A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14FF-6A99-4837-BFC4-215CD23C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0201-0FA8-40C8-A2EE-75E6B4E8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08D8-1928-48E4-A36C-01C801CB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ADC1-94C0-4644-BC23-3F4CE648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E9AD-6322-442E-9876-54821DDCA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2A44-93E9-4CCF-A5B0-2CB7F726D9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ine Reise nach Deutschland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Cole We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rcRect l="17646" t="21053" r="22550" b="59212"/>
          <a:stretch/>
        </p:blipFill>
        <p:spPr>
          <a:xfrm>
            <a:off x="152280" y="2438280"/>
            <a:ext cx="8839440" cy="27432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95280" y="533520"/>
            <a:ext cx="64771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ugticke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ch fahre mit dem flugzeug von Chicago nach Berli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Zugticket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ch fahre mit dem Zug von Berlin nach Munchen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rcRect l="26329" t="46299" r="27779" b="40825"/>
          <a:stretch/>
        </p:blipFill>
        <p:spPr>
          <a:xfrm>
            <a:off x="228600" y="3733920"/>
            <a:ext cx="86868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iserout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rlin nach Munch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5029200" y="1905120"/>
            <a:ext cx="3032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unchen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ch bin gegnuber dem Marienplatz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ch bin in der Frauenkirch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ch fahre aus der Bayerische Staatsoper Opera Hou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ch bin bei der Englischer Gart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ch bin vor der Asamkirch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ild von Munch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munich-skyline-1"/>
          <p:cNvPicPr/>
          <p:nvPr/>
        </p:nvPicPr>
        <p:blipFill>
          <a:blip r:embed="rId2"/>
          <a:stretch/>
        </p:blipFill>
        <p:spPr>
          <a:xfrm>
            <a:off x="1676520" y="2057400"/>
            <a:ext cx="541008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as Hot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Content Placeholder 3" descr="Screen shot 2012-01-08 at 6.07.43 PM.png"/>
          <p:cNvPicPr/>
          <p:nvPr/>
        </p:nvPicPr>
        <p:blipFill>
          <a:blip r:embed="rId2"/>
          <a:srcRect l="0" t="-184339" r="0" b="-184339"/>
          <a:stretch/>
        </p:blipFill>
        <p:spPr>
          <a:xfrm>
            <a:off x="0" y="16765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as Hot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mein Hotel, haustiere sind erlaub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mein Hotel, es ist ein Hallenb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in Hotel ist auch kinderfreundlic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ost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in Flugticket kostet $65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in Zugticket kostet $28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in Hotel kostet $196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ine Reise kostet $1,135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23:49:37Z</dcterms:created>
  <dc:creator>CUSD220</dc:creator>
  <dc:description/>
  <dc:language>en-US</dc:language>
  <cp:lastModifiedBy>Richard Weber</cp:lastModifiedBy>
  <dcterms:modified xsi:type="dcterms:W3CDTF">2012-01-09T01:05:31Z</dcterms:modified>
  <cp:revision>4</cp:revision>
  <dc:subject/>
  <dc:title>Slide 1</dc:title>
</cp:coreProperties>
</file>